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39"/>
          </p:nvPr>
        </p:nvSpPr>
        <p:spPr>
          <a:xfrm>
            <a:off x="388440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body"/>
          </p:nvPr>
        </p:nvSpPr>
        <p:spPr>
          <a:xfrm>
            <a:off x="685800" y="464292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40"/>
          </p:nvPr>
        </p:nvSpPr>
        <p:spPr>
          <a:xfrm>
            <a:off x="-3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 type="sldNum" idx="41"/>
          </p:nvPr>
        </p:nvSpPr>
        <p:spPr>
          <a:xfrm>
            <a:off x="388440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1FCA-24C6-4F6C-91ED-C5C6305BA5D4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DC6B-A182-4E7F-869D-EB99BA339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08A1-30D3-4CAC-B404-9CB64A4D5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DF71-65E5-4C37-A7A9-6EC27BF67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78BD-CCC1-444C-96F7-C2654C175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803B-997E-4E2B-9A09-A11796492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C14C-3FD4-4E78-9933-53A78ABF5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FD37-61C8-42F3-9986-E33AFDEBF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CADF-7790-44F4-9D6E-C185FEADF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A5C9-1754-42CD-B6F0-4EC6885E7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6202-CF5B-4FC8-A937-3FDECBB26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670A-7437-4D7A-9A4D-41542E20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7306-70E0-448F-9407-F1EC3BEB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78009-585F-46F4-B6B7-79A5A801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CA7D0-6764-4C50-A9A4-AAA97B6B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0F999-EA33-4B14-9D36-C7C84A19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E83D3-08C8-4E18-9C6D-B4578ABB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F7C92-D5B4-4DF1-AA84-AF14516A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3E0AA-0566-4938-9B4A-39FF4334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40237-24C6-457D-98AC-FC7FD4E0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6BC04-80D4-45C9-AAD5-C792876C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1DE82-F489-4D1B-8EA3-CC1954F8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BD8FE-F6E8-435B-8050-07BEAB421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5C10-1F70-4F58-8FD7-24A445F3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E54D3-EE5D-4DAA-AE9A-7A5BF722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182C1-1A13-422E-96A3-5443B3E7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6B38C-B4D9-4CA1-B5AD-9B098F15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F98AF-5B22-4177-90FF-9C26166F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EC251-0B70-4DB3-9F17-FA6B58B1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EC3FD-74E6-4D0F-99F5-000EACBE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698CE-5747-4FD0-96E5-5E95CA30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B4802-42C6-4927-B3B1-A696F920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A8B21-CCE9-409C-A58E-55186BA4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03B6F-B91E-45CD-B1F8-51A46AE9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61B1-01EC-4119-8ACE-4D8BD225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B73DA-BA00-4902-AA9F-277A46EC1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4755F-6F26-4BFC-8C97-5DC82F1B5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93D57-18D0-44D4-A7F7-962664E3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309B5-0801-4390-AE91-2F6B575A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ED68F-FA52-4B0D-B903-7CCD6C13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6F1D8-4378-45FF-836B-37BA033B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AA98A-4348-4D27-8515-88BE5BBE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39702-897A-4AAC-922F-DB16F362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CC024-99C9-4E00-9C46-C1983181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87E44-D64D-4351-B1BA-0CFED269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68EB-C67D-4268-8AAC-60A0CFA13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8BAB5-C633-4520-BF7D-4C412A26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873C3-49A1-4E23-B622-6DAC9BE9D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E36AF-6554-4025-8D93-37F92CF06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F413EF-2AFE-4199-91EC-18F8A62A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401F45-4779-4DD4-9157-82DCE357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BF14B-CD54-4B95-B32B-FAD82888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418FA-926E-4302-8201-0CDF8086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A1C60E-557E-4C39-8486-8D53A8CF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A369D-6793-4BF5-8CE5-2597DC3B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25C21F-6507-4392-94E1-801D6132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B707-DFC9-4D96-897C-C7E26A15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B1FE1-0E9B-4594-B908-A9EBFF5C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59C2C-6895-4912-8DAF-8F500946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FA190C-CD6D-4945-B71E-6906D014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5E6CE-C222-48E3-955C-D764A956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69E557-42E5-4084-8A03-19C2E50E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99D7EC-9547-4927-8E27-9875BEFA7B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65D404-54CE-414C-BDA1-69B25F18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131F20-FBEE-437B-A24E-B7F330E9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6DC6D2-9BC9-40CA-8041-964C6141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A34DBC-F72C-43AF-8EC1-EFC283E0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C74F-65DD-47D2-AB8D-A20139D0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D7C0BB-2B8E-47C1-8C3B-CE0219C74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9BAEF5-D6FF-4084-9931-506C1397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D828D4-98BC-472A-9F93-3A6C13CC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FEB91F-4EC6-4A5E-BD7C-365BEF8C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6DD9E0-99DA-4613-8A8E-66EB36F2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771AE8-FAAB-45B5-B553-F594F6FD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D0DFB4-5CA6-4FE8-A6F7-33D6970746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C001-C018-44CF-AD85-14730FFF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3F63-F2B5-47CF-A582-1B30F652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3A56-1969-4473-BF0B-BD8E84C4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8588-E744-4E7F-A0FF-DB8072EF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91AC-162C-4053-980D-D6EF787D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4582-2BB5-48B7-A813-46236F5B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FEA6-F7F6-4BB7-A10B-19D7E3EB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0146-0CA1-4304-9596-6194D73E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9E7E-729E-4C2E-BC21-3A744B1DF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4BDE-B433-4E0F-BDA4-7227C638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F1AAD-31D0-4A39-B144-F50C167B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4CA0A-573B-4953-B070-E1300FC6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BF6E8-9D69-4D58-9C9B-953A5D79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1F1FC-BC3A-4151-B269-79E0F21B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D8F3B-9F9F-4C60-82B7-A2F11631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CB52-965C-4C0E-8816-4BA8F1A0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8445C-0EE0-4C25-AAB5-7A2FAB98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FC0D7-B52A-4F24-8ABC-6728677C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5ED03-ACF9-4998-BF61-37240A32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E185A-4307-461D-AF03-1C2F39EB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9D0AF-EF26-4A35-AEBA-BA863CE5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D4316-2C20-4F64-A4AD-6661A35CB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A92DA-5C9F-4EA8-92B4-8824DE3D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7B1C8-18B9-4107-8C5C-EA5BF9811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D6914-A84B-4B86-9CF6-DF25EB67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16508-E1B9-4D04-AAD6-C48DDDF7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7B36-D7A9-4AFD-B9E2-567A3269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2355E-4F11-4309-B4E8-45C13425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265E2-1049-4376-A0CE-7730370A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55C78-C5E8-457F-BB24-34B206D4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540D9-0BDA-42C3-9F7E-9A806323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1A9B0-AEBA-4CA2-964F-0012E908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68F96-77F8-44F9-BBAC-212B765C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168F3-43F5-4AB6-8340-69D34546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4CA05-6886-4A5A-9864-52800D40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86FE5-8A64-4060-8A60-018B19F51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AE193-264F-4039-AFA1-3D0718A86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CD7A-6698-40EC-8EAC-F48B2ADA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953DC-945B-40B2-86A4-C91547C6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84211-D7EE-4405-A9B9-DA5AAAD1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D382B-0CA7-4C54-A6B3-5CB88437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ACCB4-1CB4-47BC-974C-7BBF1BC9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66852-0720-4E46-B2E8-F6F21BCE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BC85E-9687-4194-9D11-1EA68E2E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193F0-1633-410E-A6EC-11BD1B4B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09CD4-7634-45FA-A65C-0745E462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53B8F-0D32-4134-ADE3-E1F490F9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C7B7A-EC7C-4702-A80B-1327968BE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256C-92B9-45DD-B7A3-0CD84094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E88F2-A522-4BA3-AA54-89738FA8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2462C-AA8E-426F-8229-4DE0F0E1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F53B4-634A-48BF-8146-EE055D7A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39C7D-A706-4B44-A87E-F1238E8D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612F0-6C33-448F-86F2-A08CE571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446CB-5569-4313-9E87-51B751C8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E88AD-9749-441A-904A-FAF85E61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F6696-FAE0-4896-BB81-BECA8FF6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3E846-3EF6-4F94-948A-F052FAE5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0AB50-3A4E-4ADC-86B9-2BE8D4F2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EC45-7751-40F9-AD92-74F2F233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58B63-924A-4034-B440-171A54EE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1AE77-DF3D-4894-AE00-41176F9F8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C5ABE-6ACB-4496-BEFC-B0765D7A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678ED-9E64-4943-9DC4-E6497565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27613-95A7-4D10-8E77-48B6D83D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71C1D-B644-48A8-B53E-18C11030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862ED-3D03-40B0-9DE9-36EF0A57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E9067-B417-41F8-BF0B-31455485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D8E0C-9FF6-422F-A43A-C5C8FFC4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17CAA-2B54-44C7-B25D-2EC983DC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BAF6-51DD-4041-B2E7-1DC952D3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97E2E-0E99-4DFB-A6E1-DF41B5A2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89D60-1DF8-4A15-A46C-9A5A070C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C7D84-2125-4A32-AFE8-4FEB9B09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84EC0-EB2E-4815-9702-96C9A5A0A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B0893-ADCE-4144-8FE0-8F8B46EB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61A99-05C8-44B8-93E8-E6903316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708F7-324D-4A05-A53B-0E50AC3C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94B63-8E7E-4256-BEAE-B7107499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38251-ABED-41FE-845F-7D6C293F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9617F-4426-4E46-8E77-24EBBC9B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AD94-E8B9-4C07-B2AD-C2560F89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D6F75-A312-4A39-B9C9-80E3BCBB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081D6-87B7-4969-A974-368C2EE6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612EF-83E7-4285-8D2E-FDB2979A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7108C-685C-4F4C-9BAA-895712DF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599E6-3A8D-408F-B67D-D42FB0AE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71E91-6013-44B7-9FB9-9418F77C7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071F5-4068-44B5-9B2B-ABAC61A84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58CDD-3732-4DA4-B18A-8F3203CB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79C32-8970-4896-94B8-85031864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AEB9B-7D3E-444C-AF98-F1DAAD5C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31FF-CBC1-4614-BAFF-3701CAEF5E1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24DA-D438-47FD-B165-5FE23E69B6F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48D3-282C-42E6-841D-33AA58BAF7C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C850-1988-483E-B6F4-21A3CE8DA1E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3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A828-D438-437F-A559-99C077E79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FA4D-9CBD-4E51-824F-E74595AE0D1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48AA-A788-4AE4-8384-A17CF7F569D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2B0F-485C-4AD7-87DB-0CFCDE4D561E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A7B2-A607-465D-BB87-6C5247B510F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6D2F-E7DE-46BC-ADF9-D2FAE69E0BE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A9FD-182D-4DC8-B1B6-B09B51B54FBD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3966-2B59-41F4-BDB7-DD51BF0A356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A4CE-6B3D-4F9C-9D79-477BF8BB775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13 - Ορθογώνιο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Ακαδημαϊκού Έτους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0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-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1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14 - Ορθογώνιο"/>
          <p:cNvSpPr/>
          <p:nvPr/>
        </p:nvSpPr>
        <p:spPr>
          <a:xfrm>
            <a:off x="1332000" y="4437000"/>
            <a:ext cx="6875280" cy="13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15 - Ορθογώνιο"/>
          <p:cNvSpPr/>
          <p:nvPr/>
        </p:nvSpPr>
        <p:spPr>
          <a:xfrm>
            <a:off x="826920" y="5805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Σπυριδούλα Κατσαντών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9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0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1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5" name="12 - Εικόνα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3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πόψεις Γονέων παιδιών με ειδικές εκπαιδευτικές ανάγκες για την ένταξη των μαθητών  με εεα/αναπηρίε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21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22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Ένταξη και Ενσωμάτωση: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ημασιολογική Διασαφήνιση των όρων- Προσδιορισμοί και Οριοθετήσεις</a:t>
            </a:r>
            <a:br>
              <a:rPr sz="3200"/>
            </a:br>
            <a:br>
              <a:rPr sz="2000"/>
            </a:br>
            <a:br>
              <a:rPr sz="20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Παναγιώτης Ν. Μαντά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3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31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14 - Ορθογώνιο"/>
          <p:cNvSpPr/>
          <p:nvPr/>
        </p:nvSpPr>
        <p:spPr>
          <a:xfrm>
            <a:off x="395280" y="3573360"/>
            <a:ext cx="8137440" cy="24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0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640" name="12 - Εικόνα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641" name="5 - Ορθογώνιο"/>
          <p:cNvSpPr/>
          <p:nvPr/>
        </p:nvSpPr>
        <p:spPr>
          <a:xfrm>
            <a:off x="611280" y="59500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Σπυριδούλα Κατσαντών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6 - Ορθογώνιο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Ενότητα 4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Ένταξη και Ενσωμάτωση: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ημασιολογική Διασαφήνιση των όρων- Προσδιορισμοί και Οριοθετήσεις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Σπυριδούλα Κατσαντώνη</a:t>
            </a:r>
            <a:br>
              <a:rPr sz="1800"/>
            </a:b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4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5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Θεματικοί Άξονες Ενότητας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58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59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4.1.Ένταξη και Ενσωμάτωση: </a:t>
            </a:r>
            <a:br>
              <a:rPr sz="2800"/>
            </a:b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ημασιολογική Διασαφήνιση των όρων- Προσδιορισμοί και Οριοθετήσει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67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68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4.2.Αντιλήψει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τάσεις και απόψεις 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ων εκπαιδευτικών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για την ένταξη των μαθητών με εεα/αναπηρίε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76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77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3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Ο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Ρόλος των εκπαιδευτικών και οι απόψεις τους για την ένταξη των μαθητών με  ΕΕΑ/ΑΝΑΠΗΡΙΕ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85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86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63280" y="1392120"/>
            <a:ext cx="788508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4.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πόψεις  και αντιλήψεις 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ων εκπαιδευτικών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ης Γενικής Τάξης για την ένταξη μαθητών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Ειδικές Μαθησιακές Ανάγκες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έσα από έρευνες.</a:t>
            </a:r>
            <a:br>
              <a:rPr sz="1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94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95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5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Οι αντιλήψεις των μαθητώ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για την ένταξη των συμμαθητών τους με εεα/αναπηρίε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03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04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7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6.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Οι αντιλήψεις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ου Οικογενειακού Περιβάλλοντο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για την ένταξη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ων μαθητών  με εεα/αναπηρίες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12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13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34:10Z</dcterms:created>
  <dc:creator>Maria Petmesidou</dc:creator>
  <dc:description/>
  <dc:language>en-US</dc:language>
  <cp:lastModifiedBy>MANTAS</cp:lastModifiedBy>
  <dcterms:modified xsi:type="dcterms:W3CDTF">2020-10-13T09:30:42Z</dcterms:modified>
  <cp:revision>158</cp:revision>
  <dc:subject/>
  <dc:title>Παρουσίαση του PowerPoint</dc:title>
</cp:coreProperties>
</file>